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B9A-F7E2-4F29-988E-B6B88AE8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45C-FED9-41F0-A11F-EA8C0272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5E045-493A-4C19-8DF5-AD1AC01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A7D1-6BD2-42E5-969B-A3233C7F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0850B-B08D-4795-ABC3-9582C898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5187-3B4E-4309-B15F-A4C741F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3977F-B0D5-47CE-BD0B-815854A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6EBA7-672F-49E6-AEE5-4D31F3EF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09C34-FED8-4AFA-9973-9B1200A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E4D1C-AAB8-4E23-9066-F9749D81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E03F1-5595-40EF-894E-4D33327E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E8CAD-93D0-4688-8F80-8FF380C5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21B-169E-4741-A735-53DEED99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21B1B-6305-4318-A20D-488E5E5F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AADE2-9BDE-446E-82C7-3762EFCD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40CB7-0BDA-413E-AD6B-794DBD35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44B04-62F1-4D27-9370-86EE2A5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71CA3-74DF-4C4B-8174-07623381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FB770-36F6-476F-9CEC-0E42F88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C64EC-71EA-4A86-8B7B-E6033E8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219B8-7E7A-471F-9F45-BB55823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7A331-7A49-487F-8B55-80E67C5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68ED3-FEAC-44F2-ABC7-4D143D21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0BE-4FB2-424C-A491-ECA52695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844C9-9D45-4E75-8377-65EE06C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158C8-2D08-44BA-A16B-0EF9EEE5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42A22-D512-4236-9F83-0CD4D140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B02FA-8657-4163-8A5B-900C7D9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9FCB1-3B66-4EDC-9173-98A3E87D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33FA0-9C05-4A59-96B7-CE3F2BDC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AEDD-16B9-4F98-8D08-3C24694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A304-0D72-43D2-A5DE-FBDBD4B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58842-8A69-480E-BF4A-2AE4B49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E167F-FB0F-4C07-9106-114CC55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F19-46A3-43D7-8DD5-317ABF5D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061A-6719-4153-8C3C-1881115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CE9C-454A-4817-B1FA-A1D675E7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B1A11-25BC-4627-8F6D-6E8DB03A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D7DD1-6542-48B7-BF71-CD07F145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DAEFA-764D-43A8-AF31-0485EA4F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F3F45-DBCA-4ADD-B089-143FEF3C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071F0-CFAC-45E1-A68A-343C90E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6E2DB-DAF6-4E0C-A8A6-96282F71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F3AB4-E776-4257-B91C-F998D64F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69B84-3C60-4EF1-A1A9-A742951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3A23-BAFF-49D7-B3D9-7FBC629E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DA94A-EC63-4713-8971-F222DAA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6DAF-5779-4161-AFA7-4126355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B656F-34BD-4120-9FB8-399DC64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9EF79-B6FA-40CB-BC3C-93BC6E59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D89D-0059-41B6-B253-131D1A99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DAA8D-D89D-4B65-84DA-83E5193F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586BB-8EF5-464B-8249-94C7914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CC275-22DA-435A-B65F-A1D31514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415D2-3967-4BA6-A8CE-13612FD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79A5C-53CD-4EAE-ABDA-1CB997E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87DF-9C74-4FB4-8978-DEA5F3B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132BE-2081-4F69-903A-C79CFCCB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7A6A5-97A9-4B43-BD86-8651F57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26721-5EF2-4770-BCBF-3646A45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61790-C692-435E-AD13-AD3572D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13991-4902-4D60-AC86-D736BB1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2F6C4-2C43-4C1E-A80E-99D4139B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A45D5-BD55-49D8-821A-1FD8200E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71A9A-A8FE-49E0-BA94-5E646350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E14E9-E247-40C5-9BA3-A3020C24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2388B-23C8-460F-A2CE-964A6DC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EC77-7F3A-4ACF-A876-FFEC7D0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3D42D-1EFC-4CA1-AD4E-C21CC5FA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A9054-0D8D-4DA2-9659-F949F14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ACC83-512C-480A-AF0A-97C4F339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2B7A7-1BED-4E07-B2CD-1CC3FF72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C3101-F9E7-4A27-9176-DEB0094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2BEA7-A7E8-4308-98AF-D95DD29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EABA9-DD8D-4DEF-9557-C47504C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8C1FC-A318-4A9A-994D-C213E45E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78E77-C25C-46AC-BD8B-06620F97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742DD-B388-47E6-BA02-3E8E24E8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6969-0EBF-40F5-B0C2-1CDCD34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B9B17-C68B-4C66-8DE2-0F21EF6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83AA3-7A50-4C83-A106-833A19B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CDEB3-99D4-4459-8075-DFFC72A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23EDC-6FEA-4160-BAA0-4E2BF28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CD0A3-D531-4E54-8AA6-246289AB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BDB4D-2E83-4C95-A38A-1DD4022E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72BE3-59AB-4AB8-B8F6-D064D4D9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C6461-0734-4B99-8059-5D788BF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026B4-1EBA-470A-B412-ED4A051F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97B3F-1A05-4505-8FD4-4D38D221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1AA-03B0-4FD5-BAD3-2D362B8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D96D4-4883-4053-89CE-76642983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C7C8C-E233-49E1-90A8-7E2ED047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629D3-7ADD-4CE1-87DF-AC4DBC4A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84227-8DCF-4DB3-AB2B-E478303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7B776-D0BC-4B95-BAD8-3283C049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B385B-7C8E-490B-AC46-0205FE4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B93B7-F87F-4728-9427-7DBE6A8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EB7FF-30D6-40C0-BF54-1B7E746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72A19-63E1-469B-B5DB-84AAB9B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AC859-F4BF-4649-8C91-5AE5D41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92F6-A5F5-4238-9AD4-9F92A7F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49595-8AE5-4B48-A430-2512BB2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42585-AB0B-40C2-A233-0E7683E9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FA6D2-CA85-4A80-8B18-D1899395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99307-AC25-4DFC-A8BA-D0ED4375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FB0E2-04BA-4176-9580-5263EE9A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3D33E-9339-4A17-846A-DD5705CC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A74DB-E83E-4B5B-96FA-BA4FB5B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13B4B-A100-4960-A297-E17D4A10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1DE54-79B3-456B-8C3C-CC734C79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062A2-D714-46D7-B8E2-2A92ECD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8BF-B9FF-496B-9EDA-0B97A491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E09-96F0-4227-A702-590D573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84B0F-F9AC-43F9-B502-1742209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B5DEA-48F2-410B-B71A-F41A4AE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51036-B895-4B8B-A271-35A8AD9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FF89C-BF33-48C5-9CD5-320347C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DAA36-9DE9-46E9-9FA2-F525FF78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79573-F911-4C14-B7DD-AA3F1F5B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A73B3-D42F-4188-BDF4-29CBDB6E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49343-6A95-4BE7-B5FE-FDF1921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3520E-5D32-4E8C-AE31-36CD140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41489-9EF4-441A-965F-0445D80A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641-9148-4A74-B3CE-B821836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4B3CD-E67D-4744-AA59-CDB29D4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D93C53-82F5-485F-803C-1B442DC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9AA2D-41C4-41D1-A316-3D22CA6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DD5CC6-BDFB-4354-B4B9-A46C310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B71C9-E88F-426C-9F5D-E0AFC63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6DDDF-BE45-4D0C-88B2-29BD98BC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4FC72-1B0A-48DA-84DF-63443424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6EFBC-9C3B-40AE-B298-80A358BF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0CD27-D74C-40B8-AAC1-B5DE74A8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3E045-B457-4DD4-8F17-04FB24C5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911E-8E95-4FF8-9ACD-8A4BD19F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39CD2-4E4C-4640-9488-D3C9F817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08C39-7077-4D01-B579-FB0CD07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660EE-AC30-409D-BED5-FE2EEBB3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B9542-27F6-4CB2-BCD5-A936384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ACA7B-B090-42A9-8BFE-339F6B2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99611-EF60-4C68-9BB0-D133541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ECA8C-8322-4826-B3B1-856AAA8B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07B14-95E5-4F6D-84CF-F9BD0F1E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5DF9A-A4F3-4295-88A6-233026EC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6A68B-DCC5-4CC0-ADFF-B761C72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6275-B56D-4714-A65D-29F499A8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9274D-6F82-4407-9AC1-6517119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80EDE-2348-41BF-83D8-B4D07098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F86B4-985E-4AE0-9820-310EDD0A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B74F2-6CB9-4CE9-BFE9-73374FB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7F40B-A596-4410-9ECA-6F95140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CB6C3-DEB2-4740-AB52-8DDB062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42882-EBF1-422B-AAE5-C2A06EF5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3CEC3-2FE2-4911-9633-1B9E73FC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FD90B-558F-43FD-BE9F-4EFAF9C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9B6D1-2070-4042-B1B8-822B6797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C5E8-EF42-4CE0-BCB5-C6DAFE7C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C0889-05B3-4CEC-9A21-D8C6B89F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35510-356B-4C67-904F-C98E37C1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57589-6516-40D1-A33E-EE32529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A6331-3800-44C1-955F-0263549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B8507-2827-48E5-A287-C6F4EBC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9F40E-E0FE-4BE3-B828-73B7D197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7B41E-18E1-4D77-A85D-BDD3537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3D5F6-8BFD-4EBB-92FB-C7303AF9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0FA61-90B8-41E0-A3C8-264A228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51CF4-37C0-4FE9-AD10-73F2AC5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55D1-C035-4DA4-8FD2-32B121DF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CCA7EC-5D18-49E9-B652-439D191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39CF0-7C86-4EB6-ADFE-D58BDDE8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01766-9293-4E93-809A-4FD58E49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AA8633-21A1-4C0C-AFB0-266CA593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7ABA6-861D-4006-8681-9F00C0A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62A76C-856A-467D-9FE0-638CBB3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80DFF0-3D0E-4D3B-98D4-1528D9F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CCD812-2A1F-4161-BAD3-87B744EE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DD1BAB-C9AA-48A8-940B-DD82ECB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C6253E-7DE1-499F-86A2-2DD2300D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2A5F-BA2C-4E17-AB14-D699E886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959A23-DBB7-4289-8459-1D82714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59C8C7-7870-43BA-841A-8543548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9A4F6-CCFC-47FC-932F-B5CD814D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CC0C1-FAC5-4D86-9554-1038E791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065327-26BA-4639-8BA7-3AF68A21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C262C1-5DE2-45D8-907B-98215443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9703D0-6E68-4778-AB36-948E9FC8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F4B9A0-8C33-4CEA-BA86-0131D4FD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29B44-2928-4B1D-B062-F0F2C9C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57F96-849A-4279-BAF9-21BC5377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55E4-4C6A-4035-ABBD-00DFB38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38CD9A-3E2E-438D-A684-269F361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5A60E-19B3-4790-B000-94E9CDCF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12A1F-D8BD-479B-96CF-2E78EA2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4078B-13DB-4E3F-B936-C1AD9F6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C24B4-03C3-4108-B208-9AA3CA80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E01D92-24CB-4160-A89F-A2FDBCCA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36A650-DCB7-46AC-92D2-1C42D969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E6795-D479-44B4-9DB9-E20FAF5A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C9A46-9FB0-40CD-A32C-CFEF0D0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5C6BAB-DA45-4D5C-8647-E0526DC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3A38-E5E6-41E1-BE0C-9DCE2DC6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83C099-A6EE-4545-B193-A36B709E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3FEC76-E980-4AE6-93BA-0ECA1952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CB52D-BE57-4243-86B6-1EA993DF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116C3-91C8-491F-B4E5-3B27907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E5E4B9-6033-4498-A583-1FCA1D1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8FB334-EBAF-4625-ADC3-86BE0DC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722E7-C8BA-4923-AC25-D7890B9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2994F6-B651-48B6-9624-FAAA2EBE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9B824-C32D-4AAF-964B-ED23378D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2ED24D-A01B-467B-B826-F8A5B35B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8610-2F9D-49EE-9762-65D5E3CE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8B2B42-4953-4A4B-BBCE-6C970EC4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D7D7C8-01F4-46B5-A72B-67FAE3EB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007B90-20A6-4234-AF59-66324C36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2836D2-1531-4E01-BCC4-AC41417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49AF6-B0A1-4D51-B175-0EE0AE57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DBDF5-B17A-4545-BBCB-A1A0B63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DE351A-0E8A-45BD-8FCC-305D658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101DBE-1A0B-48F4-AE20-A5BB5F3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21FE25-F77D-473B-AE19-426525C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76F028-C329-4523-92E8-82DF8A91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BCA-286E-421D-9B48-A67339D2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DE1E-9246-4B09-9134-3B5397BD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135E8-2E31-4314-A63A-6E3BD84E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8BB24-85EB-4EF9-9D8A-49EADD8A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3694DE-A680-42BB-A8CE-2DD7B88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CA3E1C-1BE8-477D-9236-997A1DC4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43AFC2-4679-4386-AE7D-94D7A5D7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19654B-8678-4FA3-B307-45B95CB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B7EE67-4B0D-4926-A619-43AECB33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E940D5-4A82-4AC0-BA72-C17F260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D87F48-3B81-44CF-9CDC-20EBAA4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378F15-C282-41C5-84D5-301B576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792A-B23A-4452-96A2-0B2CAA8B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C1E2C8-F3A1-421A-9EB9-BFC2CC50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DA735F-2D16-4648-B381-B359A989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4F9617-1ACE-4D58-B396-5EE60BAE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86698A-ABD5-4EB9-8AC9-1831DD88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A8A920-D384-478E-B497-1C917714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9B428B-F552-4DA3-B52E-623A6FB8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A2D925-40DA-4749-BBDB-4D1F4D72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01FCB4-BB4D-4948-B2F6-E13F448A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D3C607-32E6-4F65-A6DE-2CE15D74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4819A9-F6FC-4B54-98FB-551606B8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6B70-2168-412A-AA38-2E78DD4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8AF07C-1A25-4D24-B494-32F0E44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92FB50-CF12-4714-9BC3-5E72797E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26833D-33B8-492B-81CF-3B4ED73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6587E7-D3EF-40C0-8E65-F63A1964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33C522-2880-432B-B078-7B7DAEE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3935-944A-4424-81EF-007719C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A2FB-E8E9-4542-89FE-1D7D4C1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D580-B2CE-4CF9-83A2-49AD31E7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B291-83A3-4F40-926D-310FA62A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CC98-9A81-4B3D-8A12-2888962B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F0A4-3EF9-4D7F-BCCA-BFF55517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7158-1E7C-41C7-AA2B-074124A0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C5B-97C1-4861-AA45-19499953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D038-EC1E-470B-9981-BD242F49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95E6-11AC-42F0-A50B-49E0C7F5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35E8-A475-481E-92CA-7DD9B18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6B9C-8DB1-44EA-AB27-25E91E8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DE5C-3D27-4D8D-9A8A-75D89AB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97D0-604F-4187-8B77-12B4787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69CD-90A7-4E2E-91CA-F6ED25D1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997C-DFEB-464A-B15D-964F801A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24D1-05A5-47BB-8F27-084B25FF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8295-FEC4-4CBF-8511-C046B48B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FD8-E8DC-4BCA-B1F1-9AA42B9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E53C-1FC8-452B-9DD9-654A03A4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1C74-96AC-447A-A89A-C511EA2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5574-7E8F-4C1A-B4E6-ACCAAD87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3BE5-C48E-44EE-8D93-77A86AB9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00B8-A4E6-4048-9115-E03C7661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E41A-AE24-4C87-BA2C-A9345D7B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774C-DB16-44DE-BA5A-EDEF946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66CB9-D5FF-459E-845D-E902E9E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80A6-8B4C-476C-AD83-01807FD0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F7F0A-4926-4840-B4E3-C143B0E8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A4D-8A27-4E00-9F0A-2B124C2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0563-96E6-49B6-A0AC-AAC12645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DC7C-3EAF-4362-8CAF-6E3C1B50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C839-739A-4E5E-82C5-944D28D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35B4-85CD-456E-AEE9-526A9AF4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B33C-FF6A-4B86-83F9-C9A47921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5C2D-336D-43AD-9FCB-0878B99D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3A02E-F57D-44F9-9F61-DE25691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1172-3864-4173-8279-D51DB9B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BE88-0CFB-45B3-8163-4369DB1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BC9D-33DC-4949-879A-04466AB8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6BD-6E82-4F19-91B1-C25F55F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87BB-E449-40C6-8A51-425658C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2007-C09B-435D-A1F0-E9B3A26D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2397-891B-4932-832D-60C3A82C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BB663-2433-4E1C-B68C-33EA9353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1076-4B75-4C1D-A6F1-A302B149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556F-926D-4CBC-9D4B-52BB496F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E2B25-17F8-4661-B8F1-7B29D4A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700B-4B5B-4452-9070-C6A386FC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5D12-C7B6-4C13-9902-590AA3A4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9F8E2-4647-47E6-91EC-D0729446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2B1-D080-46CC-9F92-87316E8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D861-E04B-4DAA-A490-DDECFBE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EEAE-A633-4D44-8223-EC4B2CA9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F6CCD-B47C-4B92-B550-1ED62C83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12549-31B3-4729-820F-496759B7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2C69-4560-4093-BF0A-32DF9EC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1164-D517-48FD-A604-77F3E92F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783C4-607B-4E3A-B926-422EF7D2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C5A1C-C9AF-4939-890C-B0DE14E1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7CF4-C700-4179-BB1F-D56A6C4C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D1CC-C27B-4BB2-A3A3-B1E8F96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490-ED8E-4CAA-A5CC-524D073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719B7-1972-48C7-9D36-686872AF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04C1E-68AD-4BAE-8E7F-9D07159A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E479-BF77-4ED4-9479-011E926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4B18-325D-40F5-9A63-3487406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3536C-1170-47BF-A8C1-B94C6BC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C66F-7129-479F-809A-35D223A3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A5867-E27B-465B-991A-FE5DF2E1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4824A-4851-42D8-9D8C-D4893AEE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59D88-6D71-420F-BBD4-7BFB947B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5BBA4-590D-4997-A467-37E60AA0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0ED-5239-44B1-8F33-A8438C58ED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ED9C-381F-4284-8143-EC8CC0DBF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02B-424C-4521-AC92-A942DC7F1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596-A95B-4B77-A596-D98C79CC6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8A7F-5C27-45F8-9851-4DFB606BE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6CBB-92BA-4D2D-91F7-829AE83E8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A3DB-533D-46DB-AD82-4E92B0770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DEF-0DC1-46B3-8B9D-2E3923975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1D4D-5D42-410C-A249-50915508F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DF3E-2B38-4883-B663-4F405C765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833-5AF4-4BB2-9FE0-A87A547BC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6E55-E900-42A4-9BB4-0C0B913DD7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053A-7370-48F1-A6CB-696D0DEF2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A7A-7DF8-4259-A233-E2D9D9F5B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7781-BF2E-4481-821D-FF751A012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0EC4-DF00-45C5-8359-FF3BD4376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985-C835-497F-9E9E-CAA00D769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7329-DA3B-4CDA-BE48-583A505D8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997C-4E3F-4249-BD16-1A9BEFBE7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DAB-35CD-488F-9432-DA876B4FD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5C91-7413-46A5-984C-4441F0070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4025-91BA-477D-8FB6-5F8C4BEE22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AFE-4270-44C7-9213-5DE995E0BA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A6BE-C3F3-4C07-8F1E-B8B9F942F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7E2F-1BCE-41E7-BCAE-857F25B49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F7A-2ECA-4652-A880-878D66DAD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C0C-06BF-49E3-8D4D-3BEF95466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image" Target="../media/image11.wmf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63;&#1090;&#1086;%20&#1101;&#1090;&#1086;_&#1088;&#1072;&#1089;&#1089;&#1082;&#1072;&#1078;&#1080;&#1090;&#1077;%20&#1074;&#1072;&#1096;&#1080;&#1084;%20&#1076;&#1077;&#1090;&#1103;&#1084;.wm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09" name="TextBox 3"/>
          <p:cNvSpPr/>
          <p:nvPr/>
        </p:nvSpPr>
        <p:spPr>
          <a:xfrm>
            <a:off x="684360" y="69228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на Забав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еловек на асфальт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4" descr="http://deti-birulevo.3dn.ru/_si/0/90415262.jpg"/>
          <p:cNvPicPr/>
          <p:nvPr/>
        </p:nvPicPr>
        <p:blipFill>
          <a:blip r:embed="rId2"/>
          <a:stretch/>
        </p:blipFill>
        <p:spPr>
          <a:xfrm>
            <a:off x="-15840" y="0"/>
            <a:ext cx="9217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3" descr=""/>
          <p:cNvPicPr/>
          <p:nvPr/>
        </p:nvPicPr>
        <p:blipFill>
          <a:blip r:embed="rId2"/>
          <a:stretch/>
        </p:blipFill>
        <p:spPr>
          <a:xfrm rot="19536600">
            <a:off x="6516720" y="3645000"/>
            <a:ext cx="2008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11574 L -0.3382 -0.28357 E">
                                      <p:cBhvr>
                                        <p:cTn id="98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3328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20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Picture 4" descr=""/>
          <p:cNvPicPr/>
          <p:nvPr/>
        </p:nvPicPr>
        <p:blipFill>
          <a:blip r:embed="rId3"/>
          <a:stretch/>
        </p:blipFill>
        <p:spPr>
          <a:xfrm rot="1387200">
            <a:off x="6803640" y="5013360"/>
            <a:ext cx="194472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4" name="Object 5"/>
          <p:cNvGraphicFramePr/>
          <p:nvPr/>
        </p:nvGraphicFramePr>
        <p:xfrm>
          <a:off x="3348000" y="404640"/>
          <a:ext cx="360036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404640"/>
                    <a:ext cx="3600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6"/>
          <p:cNvGraphicFramePr/>
          <p:nvPr/>
        </p:nvGraphicFramePr>
        <p:xfrm>
          <a:off x="1979640" y="1844640"/>
          <a:ext cx="66672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844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7"/>
          <p:cNvGraphicFramePr/>
          <p:nvPr/>
        </p:nvGraphicFramePr>
        <p:xfrm>
          <a:off x="3419640" y="2781360"/>
          <a:ext cx="666720" cy="113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81360"/>
                    <a:ext cx="6667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Object 8"/>
          <p:cNvGraphicFramePr/>
          <p:nvPr/>
        </p:nvGraphicFramePr>
        <p:xfrm>
          <a:off x="5508720" y="2852640"/>
          <a:ext cx="666720" cy="113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852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9"/>
          <p:cNvGraphicFramePr/>
          <p:nvPr/>
        </p:nvGraphicFramePr>
        <p:xfrm>
          <a:off x="7164360" y="2492280"/>
          <a:ext cx="666720" cy="113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249228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4" name="Picture 10" descr="j0344856"/>
          <p:cNvPicPr/>
          <p:nvPr/>
        </p:nvPicPr>
        <p:blipFill>
          <a:blip r:embed="rId14"/>
          <a:stretch/>
        </p:blipFill>
        <p:spPr>
          <a:xfrm flipH="1" rot="1591800">
            <a:off x="324000" y="836640"/>
            <a:ext cx="1287000" cy="13680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"/>
          <p:cNvPicPr/>
          <p:nvPr/>
        </p:nvPicPr>
        <p:blipFill>
          <a:blip r:embed="rId15"/>
          <a:stretch/>
        </p:blipFill>
        <p:spPr>
          <a:xfrm>
            <a:off x="2050920" y="0"/>
            <a:ext cx="5689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-0.06203 L -0.49202 -0.15648 E">
                                      <p:cBhvr>
                                        <p:cTn id="133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787 L 0.10295 0.41481 E">
                                      <p:cBhvr>
                                        <p:cTn id="176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Rectangle 5"/>
          <p:cNvSpPr/>
          <p:nvPr/>
        </p:nvSpPr>
        <p:spPr>
          <a:xfrm>
            <a:off x="179280" y="247032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11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j0344856"/>
          <p:cNvPicPr/>
          <p:nvPr/>
        </p:nvPicPr>
        <p:blipFill>
          <a:blip r:embed="rId4"/>
          <a:stretch/>
        </p:blipFill>
        <p:spPr>
          <a:xfrm>
            <a:off x="3492360" y="54936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3" descr="j0344856"/>
          <p:cNvPicPr/>
          <p:nvPr/>
        </p:nvPicPr>
        <p:blipFill>
          <a:blip r:embed="rId5"/>
          <a:stretch/>
        </p:blipFill>
        <p:spPr>
          <a:xfrm>
            <a:off x="1258920" y="443700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4" descr="j0344856"/>
          <p:cNvPicPr/>
          <p:nvPr/>
        </p:nvPicPr>
        <p:blipFill>
          <a:blip r:embed="rId6"/>
          <a:stretch/>
        </p:blipFill>
        <p:spPr>
          <a:xfrm>
            <a:off x="4932360" y="4508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5" descr="j0344856"/>
          <p:cNvPicPr/>
          <p:nvPr/>
        </p:nvPicPr>
        <p:blipFill>
          <a:blip r:embed="rId7"/>
          <a:stretch/>
        </p:blipFill>
        <p:spPr>
          <a:xfrm>
            <a:off x="5796000" y="2276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6" descr="j0344856"/>
          <p:cNvPicPr/>
          <p:nvPr/>
        </p:nvPicPr>
        <p:blipFill>
          <a:blip r:embed="rId8"/>
          <a:stretch/>
        </p:blipFill>
        <p:spPr>
          <a:xfrm>
            <a:off x="611280" y="191628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77" name="Прямоугольник 3"/>
          <p:cNvSpPr/>
          <p:nvPr/>
        </p:nvSpPr>
        <p:spPr>
          <a:xfrm>
            <a:off x="2428920" y="765000"/>
            <a:ext cx="58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2" descr="http://wallpaperscraft.ru/image/romashki_cvety_polyana_solnechno_zelen_nebo_leto_34390_1152x864.jpg"/>
          <p:cNvPicPr/>
          <p:nvPr/>
        </p:nvPicPr>
        <p:blipFill>
          <a:blip r:embed="rId2"/>
          <a:stretch/>
        </p:blipFill>
        <p:spPr>
          <a:xfrm>
            <a:off x="-344520" y="-531720"/>
            <a:ext cx="948204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-27000" y="3348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1" name="Прямоугольник 2"/>
          <p:cNvSpPr/>
          <p:nvPr/>
        </p:nvSpPr>
        <p:spPr>
          <a:xfrm>
            <a:off x="34920" y="11160"/>
            <a:ext cx="698508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Земляничная поляна и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араллельной реальности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я чувствую себя 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довлетворён своей работой на уроке пол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Скала, по которой нужн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обраться до замка -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верен, что всё получилось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о буду стар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Классный кабинет 7 "Е"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увствую себя не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ё было сложно, я совсе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ичего не поня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Picture 8" descr="http://www.beesona.ru/upload/403/ec0fe4ef1370fb40f9e248f3abf50898.jpg"/>
          <p:cNvPicPr/>
          <p:nvPr/>
        </p:nvPicPr>
        <p:blipFill>
          <a:blip r:embed="rId2"/>
          <a:stretch/>
        </p:blipFill>
        <p:spPr>
          <a:xfrm>
            <a:off x="5789520" y="22320"/>
            <a:ext cx="3354480" cy="2369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0" descr="http://www.niceimage.ru/pic/201305/1280x800/niceimage.ru-52910.jpg"/>
          <p:cNvPicPr/>
          <p:nvPr/>
        </p:nvPicPr>
        <p:blipFill>
          <a:blip r:embed="rId3"/>
          <a:stretch/>
        </p:blipFill>
        <p:spPr>
          <a:xfrm>
            <a:off x="6066000" y="2508120"/>
            <a:ext cx="3078000" cy="22431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2" descr="http://i9.beon.ru/30/14/2621430/56/101695556/6school_28.jpeg"/>
          <p:cNvPicPr/>
          <p:nvPr/>
        </p:nvPicPr>
        <p:blipFill>
          <a:blip r:embed="rId4"/>
          <a:stretch/>
        </p:blipFill>
        <p:spPr>
          <a:xfrm>
            <a:off x="6167520" y="479736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7" name="Прямоугольник 3"/>
          <p:cNvSpPr/>
          <p:nvPr/>
        </p:nvSpPr>
        <p:spPr>
          <a:xfrm>
            <a:off x="2428920" y="765000"/>
            <a:ext cx="58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Рисунок 3" descr="C:\Users\Дом\Desktop\000000001_3659.jpg"/>
          <p:cNvPicPr/>
          <p:nvPr/>
        </p:nvPicPr>
        <p:blipFill>
          <a:blip r:embed="rId2"/>
          <a:stretch/>
        </p:blipFill>
        <p:spPr>
          <a:xfrm>
            <a:off x="6804000" y="3718080"/>
            <a:ext cx="2316240" cy="3116160"/>
          </a:xfrm>
          <a:prstGeom prst="rect">
            <a:avLst/>
          </a:prstGeom>
          <a:ln w="0">
            <a:noFill/>
          </a:ln>
        </p:spPr>
      </p:pic>
      <p:sp>
        <p:nvSpPr>
          <p:cNvPr id="1189" name="Прямоугольник 2"/>
          <p:cNvSpPr/>
          <p:nvPr/>
        </p:nvSpPr>
        <p:spPr>
          <a:xfrm>
            <a:off x="2268360" y="1674720"/>
            <a:ext cx="639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письмо одному из героев повести (стихи, проза, рисунок, даже музыкальное произве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3" name="Прямоугольник 2"/>
          <p:cNvSpPr/>
          <p:nvPr/>
        </p:nvSpPr>
        <p:spPr>
          <a:xfrm>
            <a:off x="2484360" y="1328760"/>
            <a:ext cx="70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самом главно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3"/>
          <p:cNvSpPr/>
          <p:nvPr/>
        </p:nvSpPr>
        <p:spPr>
          <a:xfrm>
            <a:off x="1619280" y="692280"/>
            <a:ext cx="741672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ое декаб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милосердия в рассказ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 Мурашовой «Класс коррекци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лосердию не достучатьс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тех, у кого души оби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войлоком равнодуш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гений Бага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6" descr="http://ugranow.ru/wp-content/uploads/2015/02/17.02.jpg"/>
          <p:cNvPicPr/>
          <p:nvPr/>
        </p:nvPicPr>
        <p:blipFill>
          <a:blip r:embed="rId1"/>
          <a:stretch/>
        </p:blipFill>
        <p:spPr>
          <a:xfrm>
            <a:off x="0" y="-603360"/>
            <a:ext cx="9312120" cy="77774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5"/>
          <p:cNvSpPr/>
          <p:nvPr/>
        </p:nvSpPr>
        <p:spPr>
          <a:xfrm>
            <a:off x="507672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22" name="Прямоугольник 2"/>
          <p:cNvSpPr/>
          <p:nvPr/>
        </p:nvSpPr>
        <p:spPr>
          <a:xfrm>
            <a:off x="1403280" y="620640"/>
            <a:ext cx="77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лосердие – со-чувствие, со-страдание, способность помогать тем, кто нуждается в помо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70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5" name=""/>
          <p:cNvGraphicFramePr/>
          <p:nvPr/>
        </p:nvGraphicFramePr>
        <p:xfrm>
          <a:off x="2700360" y="765000"/>
          <a:ext cx="6340320" cy="5783400"/>
        </p:xfrm>
        <a:graphic>
          <a:graphicData uri="http://schemas.openxmlformats.org/drawingml/2006/table">
            <a:tbl>
              <a:tblPr/>
              <a:tblGrid>
                <a:gridCol w="5450040"/>
                <a:gridCol w="890280"/>
              </a:tblGrid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ина или лож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ра Мальков учится с ребятами из  7 "Е" с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ного руководителя 7"Е" класса зовут Клавдия Никола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бачок на границе реального и параллельного мира называется "Три ковбо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араллельном мире всегда весна-ле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могли попасть в параллельную реальность независимо от Ю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лизавета Петровна – завуч по воспитатель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 учеников-гимназистов с радостью пригласили Юру Малькова на экскур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олях Мишаниных конспектов был нарисован профиль Сте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 том, что Стеша пропала, Антону сообщила Л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г отыскать Стешу Вад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нце повести класс коррекции реформируют в общеобразовательны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TextBox 5"/>
          <p:cNvSpPr/>
          <p:nvPr/>
        </p:nvSpPr>
        <p:spPr>
          <a:xfrm>
            <a:off x="2556000" y="-1000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-л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9" name="Дорогой добра.mp3" descr=""/>
          <p:cNvPicPr/>
          <p:nvPr/>
        </p:nvPicPr>
        <p:blipFill>
          <a:blip r:embed="rId3"/>
          <a:stretch/>
        </p:blipFill>
        <p:spPr>
          <a:xfrm>
            <a:off x="474840" y="5703840"/>
            <a:ext cx="920520" cy="920880"/>
          </a:xfrm>
          <a:prstGeom prst="rect">
            <a:avLst/>
          </a:prstGeom>
          <a:ln w="0">
            <a:noFill/>
          </a:ln>
        </p:spPr>
      </p:pic>
      <p:sp>
        <p:nvSpPr>
          <p:cNvPr id="1130" name="WordArt 4"/>
          <p:cNvSpPr txBox="1"/>
          <p:nvPr/>
        </p:nvSpPr>
        <p:spPr>
          <a:xfrm rot="201600">
            <a:off x="334440" y="9000"/>
            <a:ext cx="835056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Wooden Ship Decorated"/>
              </a:rPr>
              <a:t>Дорога  доб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31" name="WordArt 5"/>
          <p:cNvSpPr txBox="1"/>
          <p:nvPr/>
        </p:nvSpPr>
        <p:spPr>
          <a:xfrm>
            <a:off x="1908000" y="2637000"/>
            <a:ext cx="539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2" name="WordArt 8"/>
          <p:cNvSpPr txBox="1"/>
          <p:nvPr/>
        </p:nvSpPr>
        <p:spPr>
          <a:xfrm>
            <a:off x="3276720" y="4724280"/>
            <a:ext cx="4916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3" name="Picture 9" descr=""/>
          <p:cNvPicPr/>
          <p:nvPr/>
        </p:nvPicPr>
        <p:blipFill>
          <a:blip r:embed="rId4"/>
          <a:stretch/>
        </p:blipFill>
        <p:spPr>
          <a:xfrm rot="19262400">
            <a:off x="395280" y="3789000"/>
            <a:ext cx="10796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6"/>
          <p:cNvGraphicFramePr/>
          <p:nvPr/>
        </p:nvGraphicFramePr>
        <p:xfrm>
          <a:off x="0" y="0"/>
          <a:ext cx="3305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30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8" descr=""/>
          <p:cNvPicPr/>
          <p:nvPr/>
        </p:nvPicPr>
        <p:blipFill>
          <a:blip r:embed="rId5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9" name="Object 10"/>
          <p:cNvGraphicFramePr/>
          <p:nvPr/>
        </p:nvGraphicFramePr>
        <p:xfrm>
          <a:off x="3733920" y="0"/>
          <a:ext cx="1676160" cy="685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0"/>
                    <a:ext cx="167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1" name="Picture 9" descr="j0344856"/>
          <p:cNvPicPr/>
          <p:nvPr/>
        </p:nvPicPr>
        <p:blipFill>
          <a:blip r:embed="rId8"/>
          <a:stretch/>
        </p:blipFill>
        <p:spPr>
          <a:xfrm>
            <a:off x="7164360" y="479736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6.2963E-006 L -0.48038 6.2963E-006 E">
                                      <p:cBhvr>
                                        <p:cTn id="58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-1.11111E-006 L -0.72448 -0.59838 E">
                                      <p:cBhvr>
                                        <p:cTn id="62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3"/>
          <p:cNvGraphicFramePr/>
          <p:nvPr/>
        </p:nvGraphicFramePr>
        <p:xfrm>
          <a:off x="6372360" y="333360"/>
          <a:ext cx="24922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33360"/>
                    <a:ext cx="2492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6" name="Picture 4" descr="j0344856"/>
          <p:cNvPicPr/>
          <p:nvPr/>
        </p:nvPicPr>
        <p:blipFill>
          <a:blip r:embed="rId5"/>
          <a:stretch/>
        </p:blipFill>
        <p:spPr>
          <a:xfrm>
            <a:off x="7451640" y="4869000"/>
            <a:ext cx="1354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1 0.0331 L -0.65608 0.04352 E">
                                      <p:cBhvr>
                                        <p:cTn id="68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00017 -0.5537 E">
                                      <p:cBhvr>
                                        <p:cTn id="7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-0.00902 L -0.65608 0.57894 E">
                                      <p:cBhvr>
                                        <p:cTn id="76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5537 L -0.6849 -0.5537 E">
                                      <p:cBhvr>
                                        <p:cTn id="80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0.57894 L -0.36458 0.25348 E">
                                      <p:cBhvr>
                                        <p:cTn id="84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8 -0.65856 C -0.21129 -0.65856 -0.06285 -0.4919 -0.06285 -0.28634 C -0.06285 -0.08079 -0.21129 0.08681 -0.39358 0.08681 C -0.57622 0.08681 -0.72431 -0.08079 -0.72431 -0.28634 C -0.72431 -0.4919 -0.57622 -0.65856 -0.39358 -0.65856 Z">
                                      <p:cBhvr>
                                        <p:cTn id="88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7 -0.65856 C -0.21145 -0.65856 -0.06284 -0.48935 -0.06284 -0.28056 C -0.06284 -0.07222 -0.21145 0.09745 -0.39357 0.09745 C -0.57604 0.09745 -0.7243 -0.07222 -0.7243 -0.28056 C -0.7243 -0.48935 -0.57604 -0.65856 -0.39357 -0.65856 Z">
                                      <p:cBhvr>
                                        <p:cTn id="9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7-02-02T11:28:26Z</dcterms:modified>
  <cp:revision>568</cp:revision>
  <dc:subject/>
  <dc:title>Diapositiva 1</dc:title>
</cp:coreProperties>
</file>